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15338-A83E-4063-9AB1-35EEF150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264DA-B729-4968-8073-63D4C34B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FCB3E-F795-42F4-8D26-19BD8207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64157-1305-486E-9929-718F15E6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D56D-F2B6-4797-A26C-E2B3979E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BA3A-AFBD-4013-9B63-228B9690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7343-F40C-49DC-83D8-064FB408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AEE9-0417-4FCA-B8EE-EBEB4F57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5EF7-C481-46CD-8326-6FDCD1E3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AF74-D577-4366-8B86-B559C4AF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06BD-C80F-4ABE-A126-15A39846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7247-8D18-4EB7-8EAE-DA2FA2D2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F222-CBAB-4C40-BC99-C9B3AA57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81F4-E062-487C-BD0F-6412B9B1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72F8-AA45-41B1-8A19-B0696BFF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1AF6-4C05-46F2-8E97-40697B38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ACE7-1D68-4218-A050-CBC33467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72986-8FB6-4F69-B0AE-675F25D4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85D89-9CEF-4912-8AC4-D91E6D26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9129-9373-4878-82B8-3D96B0A9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6CE53-6090-44EB-9330-C90DB679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D6417-C36C-407C-985B-D2099F54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F71DE-5109-45F9-8BCE-C0B4F6E1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A3EF9-A5F6-4330-8862-5628A4F7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CFBB-875D-4AD4-B779-C3CA2A6F61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297D-8FD8-4E0D-9109-2A11672205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 u="sng">
                <a:solidFill>
                  <a:srgbClr val="00007d"/>
                </a:solidFill>
                <a:uFillTx/>
                <a:latin typeface="Arial"/>
              </a:rPr>
              <a:t>Тема урока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743200" y="23623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ачните работу с нажатия кнопки Пу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429000" cy="954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18800" y="4568760"/>
            <a:ext cx="3728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 информатике и 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ля 5-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0080"/>
                </a:solidFill>
                <a:uFillTx/>
                <a:latin typeface="Arial"/>
              </a:rPr>
              <a:t>Соста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улова Светла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ГБОУ СОШ № 2031, г.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Практическая работа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«Запуск стандартных программ из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Главного меню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Запустите программу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тобы запустить стандартную 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ведите указатель мыши на кнопку Пуск на Панели задач и щелкните левой кноп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мыши к пункту Программы – откроется вложенное меню с перечнем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к пункту Стандартные – появится вновь вложенное меню с перечнем стандартных , часто используемых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нужную программу Блокнот, и выберите ее щелчком левой кнопки мы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ус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5791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андар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5791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329FF-8819-4AD9-9B2D-E2A6C81AEAAC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. Запустите стандартную программу Калькулятор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1143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295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11430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129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143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Стандар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129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1143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6765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106200" indent="-106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. Завершение работы с програм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Калькуля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появлении окна сохранения документа, нажмите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518148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A91B4-5036-4632-BE77-13FA0B777BB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Итоги урока и Д/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акую тему рассматрив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нового вы 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ему научи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вам больше всего понравило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/З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5 и определения вы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3276720" cy="238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6E64E-1CB3-4903-9541-B040D8BF5DC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910120" y="3200400"/>
            <a:ext cx="3233880" cy="2809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 с назначением и функциями Главного мен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воить запуск программ через Главное мен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948BE-0AC4-4CD5-A12B-EC182E4FF7D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19360" y="19807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тоги урока и д/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35412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31096-889C-44A3-BE15-C19B9E9C46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4619520" cy="3067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 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10663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бочий сто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Рабочем сто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анели зада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Мен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вы знаете о кнопке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ус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B6ED8-185E-445C-B97C-1EEA271213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2. Изучение нового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3733920" cy="1040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нопка Пуск располагается на Панели задач в левом нижнем уг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200400"/>
            <a:ext cx="4495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ие действия начинаются с нажатия кнопки Пу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1822-C381-4F2B-BB05-4A5468A04D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46720" y="228600"/>
            <a:ext cx="3797280" cy="5605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4495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Щелкнув по кнопке Пуск откроетс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97180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657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886200"/>
            <a:ext cx="449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этого меню можно вызвать различные программы. При помощи программ создаются документы: тексты, рисунки,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45248-D556-4815-B838-35269B93AA4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3733560" cy="5867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44960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 пункте меню справа расположен значок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ит этот пункт является заголовком еще одного ме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687240" cy="718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2971800" y="2514600"/>
            <a:ext cx="5562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3048120"/>
            <a:ext cx="3429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124080"/>
            <a:ext cx="3962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3200400"/>
            <a:ext cx="4267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F9FEE-3A09-4790-81BA-0156E77E6BA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8077320" cy="44085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содержимое появляется при выделении этого пункта. Такие меню называют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вложен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скрытым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Глав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371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Вложен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89548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343040" y="1752480"/>
            <a:ext cx="2514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934320" y="17524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1828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5808A-5CF0-4C61-93E6-6731838C603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174920" cy="6095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0492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ме того, кнопка Пуск позволяет грамотно завершить работу на компьютере, выбрав команд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вершение рабо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10FD-5BBC-4F44-93C1-D5719B7F030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</cp:lastModifiedBy>
  <dcterms:modified xsi:type="dcterms:W3CDTF">2012-04-13T07:39:0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